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1A7-589B-4AA2-8F47-EC6D6061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DFA-92DA-4221-A30A-B4B3A1A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74F-CE0D-449B-9439-7FF34EFA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702-CAB5-49CC-A74D-2177B5B3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D5E-6485-48F9-B0FA-6A482C7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6AE-BBA9-4842-99FD-A1A8AE7C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C1A-F435-4413-A090-2C673533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C8DF-8146-4845-8173-75BF315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76C0-A64C-4E0C-A083-D5B23DB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6CAB-0E4A-4B4E-9C0C-ADAF019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FC9D-E5FA-4A3C-BBFE-9B0FD90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93D-DA41-47FE-99AB-A79D10F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1D5F-DA10-4107-97BC-CDC7A6F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4353-EDBF-4894-8219-D0BA7D6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20F-7BF1-45B1-B0CB-B7BDE2F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6E75-6BCF-4847-A5A3-7877FB6C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111-EEAB-416E-8733-F4286745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3DC-AD41-4D39-A3D2-443E956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0B4-CFE7-4030-8800-829048E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1A4-BBFE-412A-9393-35B024E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D66-2AFC-49E9-95F2-76310F63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577-68C1-43F4-9930-EBD6180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36E-F62A-4EC0-9CB0-1D3A1DA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F8C-6BBD-4ADD-9D5B-E54DFF1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2992-2CF5-4DC5-89D7-3B946B9A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223F-94EE-4907-B77F-1A1F1BAE5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ice_Springs,_Northern_Territory" TargetMode="External"/><Relationship Id="rId2" Type="http://schemas.openxmlformats.org/officeDocument/2006/relationships/hyperlink" Target="http://en.wikipedia.org/wiki/Birdsville,_Queensland" TargetMode="External"/><Relationship Id="rId3" Type="http://schemas.openxmlformats.org/officeDocument/2006/relationships/hyperlink" Target="http://en.wikipedia.org/wiki/Birdsville,_Queensland" TargetMode="External"/><Relationship Id="rId4" Type="http://schemas.openxmlformats.org/officeDocument/2006/relationships/hyperlink" Target="http://en.wikipedia.org/wiki/Broken_Hill,_New_South_Wales" TargetMode="External"/><Relationship Id="rId5" Type="http://schemas.openxmlformats.org/officeDocument/2006/relationships/hyperlink" Target="http://en.wikipedia.org/wiki/Coober_Pedy,_South_Australia" TargetMode="External"/><Relationship Id="rId6" Type="http://schemas.openxmlformats.org/officeDocument/2006/relationships/hyperlink" Target="http://en.wikipedia.org/wiki/Devils_Marbles" TargetMode="External"/><Relationship Id="rId7" Type="http://schemas.openxmlformats.org/officeDocument/2006/relationships/hyperlink" Target="http://en.wikipedia.org/wiki/Kakadu_National_Park" TargetMode="External"/><Relationship Id="rId8" Type="http://schemas.openxmlformats.org/officeDocument/2006/relationships/hyperlink" Target="http://en.wikipedia.org/wiki/Kakadu_National_Park" TargetMode="External"/><Relationship Id="rId9" Type="http://schemas.openxmlformats.org/officeDocument/2006/relationships/hyperlink" Target="http://en.wikipedia.org/wiki/Kata_Tjuta" TargetMode="External"/><Relationship Id="rId10" Type="http://schemas.openxmlformats.org/officeDocument/2006/relationships/hyperlink" Target="http://en.wikipedia.org/wiki/Kata_Tjuta" TargetMode="External"/><Relationship Id="rId11" Type="http://schemas.openxmlformats.org/officeDocument/2006/relationships/hyperlink" Target="http://en.wikipedia.org/wiki/Kata_Tjuta" TargetMode="External"/><Relationship Id="rId12" Type="http://schemas.openxmlformats.org/officeDocument/2006/relationships/hyperlink" Target="http://en.wikipedia.org/wiki/Kings_Canyon,_Northern_Territory" TargetMode="External"/><Relationship Id="rId13" Type="http://schemas.openxmlformats.org/officeDocument/2006/relationships/hyperlink" Target="http://en.wikipedia.org/wiki/Kings_Canyon,_Northern_Territory" TargetMode="External"/><Relationship Id="rId14" Type="http://schemas.openxmlformats.org/officeDocument/2006/relationships/hyperlink" Target="http://en.wikipedia.org/wiki/Kings_Canyon,_Northern_Territory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The Outback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 by Kalyn Kauf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at is the Outback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back is an immense, secluded, dry area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ression “the outback” is used to refer to spots that are relatively more secluded than “the bu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Histo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858 and 1861 Jon McDouall Stuart led six journeys into the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ation of the outback was continued in the 1950s when Len Beadell explored, surveyed and built many roads in support of the nuclear weapon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in 2006, Anna Hingley was the first woman to make the journey riding a h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ining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is one of the other main economic activities in the area, the others being agriculture and tou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ff you can find when you’re mining in the outback are: iron, aluminum, manganese, uranium ores, and you can also find  gold, nickel, iron, lead and zinc 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jor mining areas are Coober Pedy, Lightning Ridge, White Cliffs, Broken Hill, Tennant Cliff, Olympic Dam, and Challeng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’s Popul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iginal homes in the outback areas have not been displaced as they have been in areas of rigorous farming and large cities, in coastal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 significant proportion of the country's indigenous population lives in the Out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utback Terminolog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ept “back” country, which meant, land beyond the settled regions, was in existence in 18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“outback” was first used in 186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lloquially said that “the outback” was beyond the black stu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ver-Never” is a term referring to remoter parts of the Australian out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ildlife in the Outba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find kangaroos and dingoes, hiding in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huge flocks budgerigars, cockatoos, corellas, and gala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see various snakes and lizards all over the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also see camels and wild horses called ‘brumbies’, pigs, foxes, cats, and some rab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uring Sit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is a list of touring s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Alice Springs, Northern Terri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Birdsvil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, Queens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Broken Hill, New South W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ober Pedy, South Austral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Devils Marb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Kakadu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 National P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Kat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Tju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he Olg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Kings Canyon (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Watarrk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Donnell R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Isa, Queens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Augustus National Pa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nant Creek, Northern Terri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andra Lakes Reg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58:38Z</dcterms:created>
  <dc:creator>Classroom/Lab</dc:creator>
  <dc:description/>
  <dc:language>en-US</dc:language>
  <cp:lastModifiedBy>Classroom/Lab</cp:lastModifiedBy>
  <dcterms:modified xsi:type="dcterms:W3CDTF">2010-12-16T17:54:12Z</dcterms:modified>
  <cp:revision>10</cp:revision>
  <dc:subject/>
  <dc:title>The Outback</dc:title>
</cp:coreProperties>
</file>